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AE7D-A8BE-4CFF-BE24-B23D78463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27FB-BE82-46D1-98B0-DED0BFF38D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 gives info about a site; copy and paste the url into alexa’s search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s you about traffic, reviews, site stats, contact and ownership of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bar- buttons on browser; shortcuts for comm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he- temp Internet files- saves images; speeds up load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bon- a new form of tool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L- a web site or page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ites- shortcuts saved on a computer to allow quick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- programs that attack files or other programs; collect data from user and send it to another for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ie- info that is stored in your computer and send to other servers giving your preferences and personal info; no re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- shortcut connection to another web pages, site or other piece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 in- a small program needed to run an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5971-9D9B-4B4D-B97F-A66DB4DF44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engines- search databases not the WWW; different search engines give different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- catalog (directory), review info, conceptual (big pi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DE89-36B2-4EBE-83B8-6A8A30C686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8070-2033-4FF9-BABE-94A6C64B62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548-EE24-4696-9DC3-9777A42C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CF4-5622-4ABD-89CC-E8F1E894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823-EB02-4BDC-AC88-EAE08B07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23A-B51B-4BF2-86E1-CBF9E32A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DC89-AB0B-4916-99D4-70A070F7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ACB1-9D44-4787-8B86-44D3334E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9CFE-79E8-4C66-8A0A-CE17ABAB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47C5-3BDD-405F-AE36-FF7F6700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7316-5D06-4473-8BE5-20A42F81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FE4E-4502-4A28-AFC7-FC40FA7D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0080-34D2-40DA-8DE5-79F9AEEF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2E8-D80F-42CC-B94F-97413FA6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F9F1-22F8-48EF-9069-717AC15E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6945-C457-447F-A5E7-A01103D6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5832-9814-4106-986A-045DF84B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45BA-8899-4D1A-9816-7F187388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2300-1591-4D91-99CA-FDF788E2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F77-9A03-4AE0-8877-BCFEC6B4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D2F-F932-4C66-8283-B6586263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359-7567-4069-B38A-A3230365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9CF-90B3-4F2E-A346-623E852A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0EB-3D11-4E7F-8217-2214551F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233-EE58-448A-B349-0485BF45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C92-0581-4DCA-ABB6-775A1D2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E36E-F0C5-4257-81DE-3D0D27039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B3D2-F226-4408-A38D-9C3AB5174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ib.nmsu.edu/instruction/evalcrit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earchenginewatch.com/" TargetMode="External"/><Relationship Id="rId2" Type="http://schemas.openxmlformats.org/officeDocument/2006/relationships/hyperlink" Target="http://www.yahoo.com/" TargetMode="External"/><Relationship Id="rId3" Type="http://schemas.openxmlformats.org/officeDocument/2006/relationships/hyperlink" Target="http://www.ask.com/" TargetMode="External"/><Relationship Id="rId4" Type="http://schemas.openxmlformats.org/officeDocument/2006/relationships/hyperlink" Target="http://excite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b.nmsu.edu/instruction/evalcrit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ib.berkeley.edu/TeachingLib/Guides/Internet/MetaSearch.html" TargetMode="External"/><Relationship Id="rId2" Type="http://schemas.openxmlformats.org/officeDocument/2006/relationships/hyperlink" Target="http://www.enursescribe.com/metasearch.htm" TargetMode="External"/><Relationship Id="rId3" Type="http://schemas.openxmlformats.org/officeDocument/2006/relationships/hyperlink" Target="http://www.blueangels.net/metalist.html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bi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ABC’s of the Internet and the World Wide  Web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to use the Internet and the WWW to find trustworthy and useable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B’s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site present the information correct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present a link to the sponsoring agenc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have advertising for unrelated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present both sides of an issu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meant to inform or to persua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B’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ite meant to do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t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ua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com - commercial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gov - government 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org - organ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mil- military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us - cou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edu – higher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net - internet service prov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C’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45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information used and presented correctl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 graphics and design appropriate and corr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age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cov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it related to what was search f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information found in several places or is it found only he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it have value to yo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page dated? What do the dates tell yo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page updated of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all the links work or have they expi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C’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12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list of sources for searchers to access for more inform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the information on the site be verified from another sou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site and the information clear and easy to see, read and underst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re errors in grammar, spelling, mechanics, or usa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copyright listed somewhe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you cite the source if you used information from the si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 si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The Good, The Bad and The Ugly- Website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Schrock’s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s to use for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fety-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ersonal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ed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ud detector (.go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ources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40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k, Susan. “Evaluation Criteria.”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good, The Bad &amp; The Ugly: or, Why It’s a Good Idea to Evaluate Web Sources. 1997. http://lib.nmsu.edu/instruction/evalcrit.htm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ck, Kathy. “Th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s of Website Evaluation.”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assroom Conn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Dec. 1998/ Jan. 1999. 1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Web Sites.”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ahooligans Teachers’ Guid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2. http://yahooligans.yahoo.com/tg/evaluatingwebsites.htm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ker, Joe. “Evaluating Web Pages: Techniques to Apply &amp; Questions to Ask.”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nding Information on the Internet: A Tutorial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5. www.lib.berkeley.edu/TeachingLib/Guides/Internet/Evaluate.htm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.TUTOR: Evaluating Web Sites.”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t.TUTO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5. http://gateway.lib.ohoi-state.edu/tutor/les1/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ources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69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ng Web Sites.”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sley University Libr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005. http://www.lesley.edu/library/guides/research/evaluating_web.ht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onents of the Intern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Wid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u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servs- subscription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 network of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Wide Web - collection of docu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ocabula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bb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(Uniform Resource Lo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vor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 (worm, trojans, spy/ad 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k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arching the n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647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wser- format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scape Navig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95680" y="19047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engines- lo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key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,or and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, -, or, “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of”, “the”, “in”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URL (web addr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searchenginewatch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Yaho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As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Exci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arching the net –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- infor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ddr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s specifics sites or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lib.nmsu.edu/instruction/evalcrit.htm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icates a personal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iqu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ec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the FAQ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P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subject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sp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d priv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Meta search engin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The list of the b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Mega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eb page Versus Web Si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p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links to other pages or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s several U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A’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enter the site repeated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load quick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move around the web site easi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reliable spons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fbi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information checked or verified by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information match what other sites pres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A’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40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author lis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talk to him/h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biography of the auth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author credible and an expert in this are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he/she have credenti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up-to-date with the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suit the audience it is intended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look well put togeth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read it and find what you need easi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8:02:01Z</dcterms:created>
  <dc:creator>High School</dc:creator>
  <dc:description/>
  <dc:language>en-US</dc:language>
  <cp:lastModifiedBy>hansenste</cp:lastModifiedBy>
  <dcterms:modified xsi:type="dcterms:W3CDTF">2008-03-03T21:31:03Z</dcterms:modified>
  <cp:revision>63</cp:revision>
  <dc:subject/>
  <dc:title>The ABC’s of Website Evaluation</dc:title>
</cp:coreProperties>
</file>